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691-0C15-4ABE-AE24-6DB0F528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CF78-AA4C-4E3E-A202-7231141A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E0D-00CE-4B87-970E-10E8A84C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A766-B70A-4526-8FD7-D1A621F9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472C-6889-43D5-AB9A-CDEE72F7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55F9-353E-4500-A9B4-30A97016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E05D-31ED-4D59-9466-80D2E3F5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9A9B-EEC3-406E-808F-83370BFA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D030-C737-4AF0-8889-A1E6522A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3D5E-DFDF-404C-88B8-1EA50CAA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4A0E-C649-422C-B180-602ABEB5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E75-2962-4B90-87A5-CDBE69E5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A12A-518C-4751-B03D-869D9DA4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07BA-4643-43B4-9CF1-ED987D26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85B7-4FD9-4953-BF10-C8E182B9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F331-ACA6-48F8-9C88-8094C6EA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2099-27C9-4A33-8FF8-E572B71E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75F-7A8B-4589-80D8-3C358594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3878-A414-4B69-90A2-1FA25B25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B9C-3536-4F9D-BE53-6C158CC5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1854-803F-46D5-8010-90F90359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505-74D4-4FC6-9712-CC31A695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B866-53B4-4301-BE65-925ECD9D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37C-0787-40B4-B53D-E2B1BB65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8F42-A1EF-4A6C-9586-093B2E7D2F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D1EA-A4EE-45B4-B063-40FFA742AA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wmf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d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eneric model organism database schem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00400" y="152280"/>
          <a:ext cx="13017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280"/>
                    <a:ext cx="13017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quence variation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NPs (redundant mapping to protein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426708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81480" y="4114800"/>
            <a:ext cx="0" cy="19051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76920" y="41148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9112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2940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=&gt;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38680" y="4114800"/>
            <a:ext cx="0" cy="10666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15000" y="419112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1981080"/>
            <a:ext cx="106704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86400" y="1980720"/>
            <a:ext cx="0" cy="21337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2514600"/>
            <a:ext cx="18288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I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029200" y="2590560"/>
            <a:ext cx="0" cy="15238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251460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1752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=&gt;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ry Perform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I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sonable, not stellar performance on PostGreSQL with index on  (srcfeature_id, min, max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ation of more sophisticated approaches yielded performance improvements in MySQL but not PostGre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GreSQL functions simplify queries, e.g.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elect * from contains(</a:t>
            </a:r>
            <a:r>
              <a:rPr b="0" i="1" lang="en-US" sz="2400" spc="-1" strike="noStrike">
                <a:solidFill>
                  <a:srgbClr val="00cc00"/>
                </a:solidFill>
                <a:latin typeface="Tahoma"/>
              </a:rPr>
              <a:t>src,min,max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ntral Dogma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ew seconds for 3 levels, al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inute to include all overlapping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 rot="3675000">
            <a:off x="2955240" y="44341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game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295280"/>
            <a:ext cx="2666880" cy="426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3886200"/>
            <a:ext cx="76176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A/Q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280" y="411120"/>
            <a:ext cx="208080" cy="190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642960"/>
            <a:ext cx="208080" cy="19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876240"/>
            <a:ext cx="208080" cy="19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280" y="179280"/>
            <a:ext cx="208080" cy="189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0360" y="15228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mbridge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0360" y="39060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rv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0360" y="60156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0360" y="81288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rke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5400000">
            <a:off x="3336840" y="1045800"/>
            <a:ext cx="1555920" cy="1533600"/>
          </a:xfrm>
          <a:prstGeom prst="rightArrow">
            <a:avLst>
              <a:gd name="adj1" fmla="val 53880"/>
              <a:gd name="adj2" fmla="val 39361"/>
            </a:avLst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33640" y="2514600"/>
            <a:ext cx="2438640" cy="1295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24320" y="142920"/>
            <a:ext cx="1380960" cy="92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hado 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344" idx="4"/>
            <a:endCxn id="345" idx="1"/>
          </p:cNvCxnSpPr>
          <p:nvPr/>
        </p:nvCxnSpPr>
        <p:spPr>
          <a:xfrm>
            <a:off x="4571640" y="316188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4838760" y="2629080"/>
            <a:ext cx="38088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Dum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5" idx="0"/>
          </p:cNvCxnSpPr>
          <p:nvPr/>
        </p:nvCxnSpPr>
        <p:spPr>
          <a:xfrm>
            <a:off x="4095360" y="2101320"/>
            <a:ext cx="934200" cy="52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3429000" y="182736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do XML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"/>
          <p:cNvCxnSpPr>
            <a:stCxn id="342" idx="2"/>
            <a:endCxn id="347" idx="0"/>
          </p:cNvCxnSpPr>
          <p:nvPr/>
        </p:nvCxnSpPr>
        <p:spPr>
          <a:xfrm flipH="1">
            <a:off x="4095000" y="1066320"/>
            <a:ext cx="1980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50" idx="3"/>
          </p:cNvCxnSpPr>
          <p:nvPr/>
        </p:nvCxnSpPr>
        <p:spPr>
          <a:xfrm>
            <a:off x="3467160" y="3161880"/>
            <a:ext cx="232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3086280" y="2629080"/>
            <a:ext cx="38088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Lo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 valid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>
            <a:off x="3276000" y="2101320"/>
            <a:ext cx="819720" cy="52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2" idx="2"/>
            <a:endCxn id="350" idx="0"/>
          </p:cNvCxnSpPr>
          <p:nvPr/>
        </p:nvCxnSpPr>
        <p:spPr>
          <a:xfrm flipH="1">
            <a:off x="3276360" y="1066680"/>
            <a:ext cx="838800" cy="156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1866960" y="458460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3" idx="3"/>
            <a:endCxn id="355" idx="2"/>
          </p:cNvCxnSpPr>
          <p:nvPr/>
        </p:nvCxnSpPr>
        <p:spPr>
          <a:xfrm flipV="1">
            <a:off x="2552760" y="3238200"/>
            <a:ext cx="534240" cy="172800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356" name=""/>
          <p:cNvCxnSpPr>
            <a:stCxn id="357" idx="0"/>
            <a:endCxn id="350" idx="2"/>
          </p:cNvCxnSpPr>
          <p:nvPr/>
        </p:nvCxnSpPr>
        <p:spPr>
          <a:xfrm flipH="1" flipV="1">
            <a:off x="3276360" y="3695400"/>
            <a:ext cx="832320" cy="13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45" idx="2"/>
            <a:endCxn id="357" idx="0"/>
          </p:cNvCxnSpPr>
          <p:nvPr/>
        </p:nvCxnSpPr>
        <p:spPr>
          <a:xfrm flipH="1">
            <a:off x="4107960" y="3695760"/>
            <a:ext cx="921600" cy="13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endCxn id="355" idx="1"/>
          </p:cNvCxnSpPr>
          <p:nvPr/>
        </p:nvCxnSpPr>
        <p:spPr>
          <a:xfrm flipV="1">
            <a:off x="2438280" y="3161520"/>
            <a:ext cx="610560" cy="72468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60" name=""/>
          <p:cNvSpPr/>
          <p:nvPr/>
        </p:nvSpPr>
        <p:spPr>
          <a:xfrm>
            <a:off x="5638680" y="2809800"/>
            <a:ext cx="685800" cy="704880"/>
          </a:xfrm>
          <a:prstGeom prst="flowChartMagneticDisk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ad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3080" y="2362320"/>
            <a:ext cx="1695600" cy="16002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B Web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grated Gene Re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e 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ome 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58200" y="3009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45" idx="3"/>
            <a:endCxn id="360" idx="2"/>
          </p:cNvCxnSpPr>
          <p:nvPr/>
        </p:nvCxnSpPr>
        <p:spPr>
          <a:xfrm>
            <a:off x="5219640" y="3161880"/>
            <a:ext cx="419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60" idx="4"/>
            <a:endCxn id="361" idx="1"/>
          </p:cNvCxnSpPr>
          <p:nvPr/>
        </p:nvCxnSpPr>
        <p:spPr>
          <a:xfrm>
            <a:off x="6324120" y="31618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6800760" y="4800600"/>
            <a:ext cx="1295640" cy="144792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en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ference sequen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Annotation Upd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45" idx="3"/>
            <a:endCxn id="365" idx="2"/>
          </p:cNvCxnSpPr>
          <p:nvPr/>
        </p:nvCxnSpPr>
        <p:spPr>
          <a:xfrm>
            <a:off x="5219640" y="3162240"/>
            <a:ext cx="1581840" cy="236304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>
            <a:off x="6762600" y="380880"/>
            <a:ext cx="1371600" cy="10670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TP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latfile ex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ollo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stgreSQL Du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able Mi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45" idx="3"/>
            <a:endCxn id="367" idx="1"/>
          </p:cNvCxnSpPr>
          <p:nvPr/>
        </p:nvCxnSpPr>
        <p:spPr>
          <a:xfrm flipV="1">
            <a:off x="5219640" y="914040"/>
            <a:ext cx="1543680" cy="224856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9" name=""/>
          <p:cNvSpPr/>
          <p:nvPr/>
        </p:nvSpPr>
        <p:spPr>
          <a:xfrm>
            <a:off x="1790640" y="1649520"/>
            <a:ext cx="838440" cy="838080"/>
          </a:xfrm>
          <a:prstGeom prst="flowChartMagneticDisk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m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o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4"/>
            <a:endCxn id="355" idx="0"/>
          </p:cNvCxnSpPr>
          <p:nvPr/>
        </p:nvCxnSpPr>
        <p:spPr>
          <a:xfrm>
            <a:off x="2629080" y="2068200"/>
            <a:ext cx="457920" cy="101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609480" y="1295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iterature C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00680" y="5943600"/>
            <a:ext cx="228600" cy="2286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5791320"/>
            <a:ext cx="914400" cy="852480"/>
          </a:xfrm>
          <a:prstGeom prst="diamond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ipe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B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dnat" descr=""/>
          <p:cNvPicPr/>
          <p:nvPr/>
        </p:nvPicPr>
        <p:blipFill>
          <a:blip r:embed="rId5"/>
          <a:stretch/>
        </p:blipFill>
        <p:spPr>
          <a:xfrm>
            <a:off x="896760" y="5851440"/>
            <a:ext cx="398520" cy="730440"/>
          </a:xfrm>
          <a:prstGeom prst="rect">
            <a:avLst/>
          </a:prstGeom>
          <a:ln w="0">
            <a:noFill/>
          </a:ln>
        </p:spPr>
      </p:pic>
      <p:cxnSp>
        <p:nvCxnSpPr>
          <p:cNvPr id="375" name=""/>
          <p:cNvCxnSpPr>
            <a:stCxn id="374" idx="3"/>
            <a:endCxn id="373" idx="1"/>
          </p:cNvCxnSpPr>
          <p:nvPr/>
        </p:nvCxnSpPr>
        <p:spPr>
          <a:xfrm>
            <a:off x="1295280" y="6216120"/>
            <a:ext cx="457920" cy="2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376" name=""/>
          <p:cNvCxnSpPr>
            <a:stCxn id="373" idx="3"/>
            <a:endCxn id="357" idx="1"/>
          </p:cNvCxnSpPr>
          <p:nvPr/>
        </p:nvCxnSpPr>
        <p:spPr>
          <a:xfrm flipV="1">
            <a:off x="2666520" y="5455440"/>
            <a:ext cx="8391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377" name=""/>
          <p:cNvGraphicFramePr/>
          <p:nvPr/>
        </p:nvGraphicFramePr>
        <p:xfrm>
          <a:off x="3990960" y="3157560"/>
          <a:ext cx="781200" cy="9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0960" y="3157560"/>
                    <a:ext cx="781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79" name=""/>
          <p:cNvCxnSpPr>
            <a:stCxn id="345" idx="2"/>
            <a:endCxn id="331" idx="0"/>
          </p:cNvCxnSpPr>
          <p:nvPr/>
        </p:nvCxnSpPr>
        <p:spPr>
          <a:xfrm flipH="1">
            <a:off x="4114440" y="3695400"/>
            <a:ext cx="91512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31" idx="0"/>
            <a:endCxn id="350" idx="2"/>
          </p:cNvCxnSpPr>
          <p:nvPr/>
        </p:nvCxnSpPr>
        <p:spPr>
          <a:xfrm flipH="1" flipV="1">
            <a:off x="3276360" y="3695040"/>
            <a:ext cx="83880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190440" y="4762440"/>
            <a:ext cx="1219320" cy="398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quence Fe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om Litera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81" idx="3"/>
            <a:endCxn id="353" idx="1"/>
          </p:cNvCxnSpPr>
          <p:nvPr/>
        </p:nvCxnSpPr>
        <p:spPr>
          <a:xfrm>
            <a:off x="1409760" y="4965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"/>
          <p:cNvSpPr/>
          <p:nvPr/>
        </p:nvSpPr>
        <p:spPr>
          <a:xfrm>
            <a:off x="3390840" y="6210360"/>
            <a:ext cx="1447920" cy="398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e Model 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65" idx="4"/>
            <a:endCxn id="362" idx="2"/>
          </p:cNvCxnSpPr>
          <p:nvPr/>
        </p:nvCxnSpPr>
        <p:spPr>
          <a:xfrm flipV="1">
            <a:off x="8096400" y="3314520"/>
            <a:ext cx="705240" cy="22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67" idx="3"/>
            <a:endCxn id="362" idx="0"/>
          </p:cNvCxnSpPr>
          <p:nvPr/>
        </p:nvCxnSpPr>
        <p:spPr>
          <a:xfrm>
            <a:off x="8133840" y="914040"/>
            <a:ext cx="667800" cy="20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61" idx="3"/>
            <a:endCxn id="362" idx="1"/>
          </p:cNvCxnSpPr>
          <p:nvPr/>
        </p:nvCxnSpPr>
        <p:spPr>
          <a:xfrm>
            <a:off x="8248680" y="3161880"/>
            <a:ext cx="21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228600" y="5791320"/>
            <a:ext cx="9907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Ba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wissPr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DG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14600" y="457200"/>
            <a:ext cx="685800" cy="83808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Ont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88" idx="3"/>
            <a:endCxn id="355" idx="0"/>
          </p:cNvCxnSpPr>
          <p:nvPr/>
        </p:nvCxnSpPr>
        <p:spPr>
          <a:xfrm>
            <a:off x="2857320" y="1294920"/>
            <a:ext cx="229320" cy="179172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90" name=""/>
          <p:cNvSpPr/>
          <p:nvPr/>
        </p:nvSpPr>
        <p:spPr>
          <a:xfrm>
            <a:off x="0" y="1600200"/>
            <a:ext cx="1600200" cy="9302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es, Phenoty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B Cross re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berration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ansposon Construct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ansposon insertion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3835440"/>
            <a:ext cx="990360" cy="398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66960" y="365760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1" idx="3"/>
            <a:endCxn id="392" idx="1"/>
          </p:cNvCxnSpPr>
          <p:nvPr/>
        </p:nvCxnSpPr>
        <p:spPr>
          <a:xfrm>
            <a:off x="1295280" y="40381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38160" y="2971800"/>
            <a:ext cx="685800" cy="380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t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76240" y="2895480"/>
            <a:ext cx="685800" cy="533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iolog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5" idx="3"/>
            <a:endCxn id="397" idx="1"/>
          </p:cNvCxnSpPr>
          <p:nvPr/>
        </p:nvCxnSpPr>
        <p:spPr>
          <a:xfrm>
            <a:off x="1561680" y="31618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7" idx="3"/>
            <a:endCxn id="355" idx="1"/>
          </p:cNvCxnSpPr>
          <p:nvPr/>
        </p:nvCxnSpPr>
        <p:spPr>
          <a:xfrm>
            <a:off x="2552760" y="3161880"/>
            <a:ext cx="496080" cy="108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399" name=""/>
          <p:cNvCxnSpPr>
            <a:stCxn id="390" idx="3"/>
            <a:endCxn id="369" idx="2"/>
          </p:cNvCxnSpPr>
          <p:nvPr/>
        </p:nvCxnSpPr>
        <p:spPr>
          <a:xfrm>
            <a:off x="1599840" y="2068200"/>
            <a:ext cx="191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"/>
          <p:cNvCxnSpPr>
            <a:stCxn id="394" idx="0"/>
            <a:endCxn id="355" idx="0"/>
          </p:cNvCxnSpPr>
          <p:nvPr/>
        </p:nvCxnSpPr>
        <p:spPr>
          <a:xfrm flipH="1" rot="16200000">
            <a:off x="1676160" y="1676160"/>
            <a:ext cx="115200" cy="2706120"/>
          </a:xfrm>
          <a:prstGeom prst="curvedConnector5">
            <a:avLst>
              <a:gd name="adj1" fmla="val -200000"/>
              <a:gd name="adj2" fmla="val 50000"/>
              <a:gd name="adj3" fmla="val -2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1866960" y="278136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V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not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3086280"/>
            <a:ext cx="75960" cy="152280"/>
          </a:xfrm>
          <a:prstGeom prst="hexagon">
            <a:avLst>
              <a:gd name="adj" fmla="val 25000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56000">
            <a:off x="2979360" y="3269880"/>
            <a:ext cx="119160" cy="119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579000">
            <a:off x="2972880" y="2892600"/>
            <a:ext cx="119160" cy="1188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5114400">
            <a:off x="3001680" y="3085920"/>
            <a:ext cx="118800" cy="119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373" idx="3"/>
            <a:endCxn id="401" idx="5"/>
          </p:cNvCxnSpPr>
          <p:nvPr/>
        </p:nvCxnSpPr>
        <p:spPr>
          <a:xfrm flipV="1">
            <a:off x="2666520" y="3343320"/>
            <a:ext cx="399240" cy="28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4724280" y="457200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Apollo chado  adapt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8078000">
            <a:off x="4062240" y="39387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chadx2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3391200">
            <a:off x="5660640" y="4624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cc00"/>
                </a:solidFill>
                <a:latin typeface="Times New Roman"/>
              </a:rPr>
              <a:t>chadx2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8340200">
            <a:off x="5248080" y="16099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report gen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44" idx="3"/>
            <a:endCxn id="410" idx="1"/>
          </p:cNvCxnSpPr>
          <p:nvPr/>
        </p:nvCxnSpPr>
        <p:spPr>
          <a:xfrm>
            <a:off x="4114440" y="3695400"/>
            <a:ext cx="2972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86600" y="4038480"/>
            <a:ext cx="808200" cy="6858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brow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GMO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2629080"/>
            <a:ext cx="914400" cy="1066680"/>
          </a:xfrm>
          <a:prstGeom prst="flowChartMagneticDisk">
            <a:avLst/>
          </a:prstGeom>
          <a:gradFill rotWithShape="0">
            <a:gsLst>
              <a:gs pos="0">
                <a:srgbClr val="daaeda"/>
              </a:gs>
              <a:gs pos="50000">
                <a:srgbClr val="ffccff"/>
              </a:gs>
              <a:gs pos="100000">
                <a:srgbClr val="daaed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yBa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read-wri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6690200">
            <a:off x="2195280" y="46623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game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4988400">
            <a:off x="2307600" y="210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cc00"/>
                </a:solidFill>
                <a:latin typeface="Times New Roman"/>
              </a:rPr>
              <a:t>gobo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505320" y="5029200"/>
            <a:ext cx="1206360" cy="853920"/>
            <a:chOff x="3505320" y="5029200"/>
            <a:chExt cx="1206360" cy="853920"/>
          </a:xfrm>
        </p:grpSpPr>
        <p:pic>
          <p:nvPicPr>
            <p:cNvPr id="414" name="" descr=""/>
            <p:cNvPicPr/>
            <p:nvPr/>
          </p:nvPicPr>
          <p:blipFill>
            <a:blip r:embed="rId10"/>
            <a:stretch/>
          </p:blipFill>
          <p:spPr>
            <a:xfrm>
              <a:off x="3505320" y="5029200"/>
              <a:ext cx="12063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3727440" y="528804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ol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XORT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XML Object to Relational Translat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ma-drive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D generator: DDL -&gt; DT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so generates html, xml, .pl versions of sche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at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t connected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yntax Verification: legal XML, correct element nes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me Semantic verification: NULLness, cardinality, local ID refere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nected: reference valid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ader-only: constraints, trigg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er: XML -&gt; D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mper: DB -&gt; X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n by XML “dumpspec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pping XML to R-DB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icy#1: XML is independent of sch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: ensures modularity, freedom to change one without the other (but why would you want to?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: must maintain mapping when either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icy#2: XML locked to sch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: don’t have to learn two things, mapping is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: see Pro abo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304920" y="4876920"/>
            <a:ext cx="8534160" cy="1904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XORT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lumn (except primary key -- not visible in XM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ew and generic: transaction and referenc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lement n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lumn within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oined table within table -- joining column is implic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eign key table within foreign key colum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 module distinctions in chadoX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mitations of DT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rdinality,  NULLness, data ty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685800" y="69840"/>
          <a:ext cx="7696080" cy="678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9840"/>
                    <a:ext cx="7696080" cy="67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Object References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How to refer to persistent objects within XML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(a.k.a. foreign key columns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 Unique Key Value(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bject can be in XML file or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 local I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nly for references to objects in same XM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ed not be in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cal ID can be any symbol - def before re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duces duplication within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 Global acc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urrently only for fea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mple extension mechanism using Per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 Reference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y key valu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&lt;foreign_key_col&gt;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&lt;primarytable&gt;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    &lt;keycol1&gt;keyval1&lt;/keycol1&gt;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    ... more key cols if needed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&lt;/primarytabl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&lt;/foreign_key_co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featur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type_id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        &lt;cvterm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             &lt;cv_i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cv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name&gt;Sequence Ontology&lt;/name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                  &lt;/cv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/cv_id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           &lt;name&gt;exon&lt;/name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     &lt;/cvterm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&lt;/type_i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       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 Referenc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y Local I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cv id=“SO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Sequence Ontology&lt;/nam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c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cvterm id=“exon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cv_id&gt;SO&lt;/cv_id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exon&lt;/nam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cvterm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featur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ype_id&gt;exon&lt;/type_id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do modu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6440" y="1905120"/>
            <a:ext cx="8737560" cy="3849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191120" y="1828800"/>
            <a:ext cx="1676160" cy="457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2819520"/>
            <a:ext cx="6933960" cy="4572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 Referenc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y Global Acce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feature_relationship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subjfeature_id&gt;GB:g01234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/subjfeature_id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ransa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okup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table op=“lookup”&gt;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sert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table op=“insert”&gt;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le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table op=“delete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1&gt;val1&lt;/keycol1&gt;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table op=“update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1&gt;val1&lt;/keycol1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2&gt;val2&lt;/keycol1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1&gt;newval&lt;/keycol1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rce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table op=“force”&gt;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bination of lookup, insert and upd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mper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XML-driven extra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behavior: given an object class and ID, dump all direct values and linktables, with refs to foreign ke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default behavior specified by XML dumpspecs using same DTD with a few ad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ribute dump= all | cols | select | n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ribute test = yes | 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 _sq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 _app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around with views, _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use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mp a gene for a gene detail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mp a scaffold for Ap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84680" y="0"/>
            <a:ext cx="4493520" cy="66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DOCTYPE chado SYSTEM "/users/zhou/work/flybase/xml/chado_stan.dtd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1. dump all information for gene CG9570 and all information for transcript, all for translation, for feature_evidence, dump all cols of foreign object:featureloc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hado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uniquename test="yes"&gt;&lt;or&gt;CG3665&lt;/or&gt;&lt;or&gt;CG3139&lt;/or&gt;&lt;or&gt;CG3497&lt;/or&gt;&lt;/unique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get all mRNA of those gene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&gt;mRNA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get all exon of those mRNA --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&gt;exon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exon, type of evidence is either alignment_hit 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exon, type of evidence is neithor alignment_hit n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caffold_feature dump="no_dump" /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relationship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get all protein of those mRNA --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&gt;protein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protein, type of evidence is either alignment_hit 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 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protein, type of evidence is neithor alignment_hit n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caffold_feature dump="no_dump" /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relationship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 test="no"&gt;&lt;or&gt;protein&lt;/or&gt;&lt;or&gt;exon&lt;/or&gt;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feature neither protein nor exon, type of evidence is either alignment_hit 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0"/>
            <a:ext cx="8001000" cy="63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DOCTYPE chado SYSTEM "/users/zhou/work/flybase/xml/chado_stan.dtd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-- 1. dump all information for gene CG9570 and all information for transcript, all for translation, for feature_evidence, dump all cols of foreign object:featureloc --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hado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uniquename test="yes"&gt;&lt;or&gt;CG3665&lt;/or&gt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or&gt;CG3139&lt;/or&gt;&lt;or&gt;CG3497&lt;/or&gt;&lt;/uniquenam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-- get all mRNA of those genes --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&lt;subjfeature_id test="yes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&lt;type_id&gt;mRNA&lt;/typ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-- get all exons of those mRNA --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&lt;feature_relationship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type_id&gt;exon&lt;/typ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do &lt;-&gt; Apollo Inter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"/>
          <p:cNvSpPr/>
          <p:nvPr/>
        </p:nvSpPr>
        <p:spPr>
          <a:xfrm>
            <a:off x="3086280" y="2247840"/>
            <a:ext cx="2438280" cy="1295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991040" y="2362320"/>
            <a:ext cx="38124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Dum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3"/>
          </p:cNvCxnSpPr>
          <p:nvPr/>
        </p:nvCxnSpPr>
        <p:spPr>
          <a:xfrm>
            <a:off x="3619440" y="2895120"/>
            <a:ext cx="232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"/>
          <p:cNvSpPr/>
          <p:nvPr/>
        </p:nvSpPr>
        <p:spPr>
          <a:xfrm>
            <a:off x="3238560" y="2362320"/>
            <a:ext cx="38088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Lo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 valid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5" idx="1"/>
            <a:endCxn id="446" idx="3"/>
          </p:cNvCxnSpPr>
          <p:nvPr/>
        </p:nvCxnSpPr>
        <p:spPr>
          <a:xfrm flipH="1">
            <a:off x="4939920" y="5113080"/>
            <a:ext cx="119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"/>
          <p:cNvCxnSpPr>
            <a:stCxn id="448" idx="2"/>
            <a:endCxn id="445" idx="0"/>
          </p:cNvCxnSpPr>
          <p:nvPr/>
        </p:nvCxnSpPr>
        <p:spPr>
          <a:xfrm>
            <a:off x="6514920" y="3314880"/>
            <a:ext cx="1080" cy="13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>
            <a:off x="1066680" y="384804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game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77120" y="384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chadx2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9880" y="2362320"/>
            <a:ext cx="914400" cy="1066680"/>
          </a:xfrm>
          <a:prstGeom prst="flowChartMagneticDisk">
            <a:avLst/>
          </a:prstGeom>
          <a:gradFill rotWithShape="0">
            <a:gsLst>
              <a:gs pos="0">
                <a:srgbClr val="daaeda"/>
              </a:gs>
              <a:gs pos="50000">
                <a:srgbClr val="ffccff"/>
              </a:gs>
              <a:gs pos="100000">
                <a:srgbClr val="daaed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"/>
          <p:cNvCxnSpPr>
            <a:stCxn id="451" idx="4"/>
            <a:endCxn id="441" idx="1"/>
          </p:cNvCxnSpPr>
          <p:nvPr/>
        </p:nvCxnSpPr>
        <p:spPr>
          <a:xfrm>
            <a:off x="4723920" y="289512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"/>
          <p:cNvSpPr/>
          <p:nvPr/>
        </p:nvSpPr>
        <p:spPr>
          <a:xfrm>
            <a:off x="6134040" y="4694400"/>
            <a:ext cx="762120" cy="8380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34040" y="2476440"/>
            <a:ext cx="762120" cy="8384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41" idx="3"/>
            <a:endCxn id="448" idx="1"/>
          </p:cNvCxnSpPr>
          <p:nvPr/>
        </p:nvCxnSpPr>
        <p:spPr>
          <a:xfrm>
            <a:off x="5372280" y="289512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4" name=""/>
          <p:cNvGrpSpPr/>
          <p:nvPr/>
        </p:nvGrpSpPr>
        <p:grpSpPr>
          <a:xfrm>
            <a:off x="3733920" y="4686480"/>
            <a:ext cx="1206360" cy="853920"/>
            <a:chOff x="3733920" y="4686480"/>
            <a:chExt cx="1206360" cy="853920"/>
          </a:xfrm>
        </p:grpSpPr>
        <p:pic>
          <p:nvPicPr>
            <p:cNvPr id="455" name="" descr=""/>
            <p:cNvPicPr/>
            <p:nvPr/>
          </p:nvPicPr>
          <p:blipFill>
            <a:blip r:embed="rId1"/>
            <a:stretch/>
          </p:blipFill>
          <p:spPr>
            <a:xfrm>
              <a:off x="3733920" y="4686480"/>
              <a:ext cx="12063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3956040" y="494532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ol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600200" y="4694400"/>
            <a:ext cx="762120" cy="8380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55" idx="1"/>
            <a:endCxn id="457" idx="3"/>
          </p:cNvCxnSpPr>
          <p:nvPr/>
        </p:nvCxnSpPr>
        <p:spPr>
          <a:xfrm flipH="1">
            <a:off x="2361960" y="5113080"/>
            <a:ext cx="1372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59" name=""/>
          <p:cNvSpPr/>
          <p:nvPr/>
        </p:nvSpPr>
        <p:spPr>
          <a:xfrm>
            <a:off x="1600200" y="2476440"/>
            <a:ext cx="762120" cy="8384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7" idx="0"/>
            <a:endCxn id="459" idx="2"/>
          </p:cNvCxnSpPr>
          <p:nvPr/>
        </p:nvCxnSpPr>
        <p:spPr>
          <a:xfrm flipV="1">
            <a:off x="1980720" y="3314520"/>
            <a:ext cx="1080" cy="138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61" name=""/>
          <p:cNvCxnSpPr>
            <a:stCxn id="459" idx="3"/>
            <a:endCxn id="443" idx="1"/>
          </p:cNvCxnSpPr>
          <p:nvPr/>
        </p:nvCxnSpPr>
        <p:spPr>
          <a:xfrm>
            <a:off x="2362320" y="2895120"/>
            <a:ext cx="8769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MPER Concer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ML file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s nex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ug Apollo / chado roundtr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V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ical que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compli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 relationship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ma ex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tics module - review in F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ress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I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al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i-permeable XML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mapping, let schema v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 for schema evolution -- schema-drive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rse-grained coupling of modules made possible by XML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ed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nglei Zhou - loader, dumper, XML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nk Smutniak - game2chadx, chadx2g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in Wiel - gadfly2chado migration, sch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vid Emmert - schema, mi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is Mungall, Suzi Lewis - schema, 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 Letovsky - XML/tool design, dtd gene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an Russo, Mark Z - PostGre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 Gilbert - XML custo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ott Cain - GBROWSE/Ch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n Day - schema (expres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lmar Lapp - ROI query optim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077320" cy="6862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577680" y="45720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040" y="2666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3560" y="13716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6640" y="441972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09360" y="57913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3120" y="228600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98760" y="373392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5520" y="26668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4880" y="495288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_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4080" y="5791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5880" y="46483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049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2286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19600" y="2286000"/>
            <a:ext cx="1887480" cy="1209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3894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894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886200" y="0"/>
          <a:ext cx="45036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0"/>
                    <a:ext cx="450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553080" y="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entral Dogma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ngle spliced transcrip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105520"/>
            <a:ext cx="449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876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4038480"/>
            <a:ext cx="38102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00400"/>
            <a:ext cx="2666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96080" y="2209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2438280"/>
            <a:ext cx="106668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572000"/>
            <a:ext cx="0" cy="1523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105160" y="5105520"/>
            <a:ext cx="228600" cy="99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61016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010280" y="4648320"/>
            <a:ext cx="7632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029200" y="3200400"/>
            <a:ext cx="380880" cy="838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886200" y="4038480"/>
            <a:ext cx="914400" cy="60984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41911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24280" y="4038480"/>
            <a:ext cx="38124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10080" y="4038480"/>
            <a:ext cx="76320" cy="60984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562360" y="4038480"/>
            <a:ext cx="152388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486040" y="4038480"/>
            <a:ext cx="76212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17" idx="0"/>
            <a:endCxn id="115" idx="0"/>
          </p:cNvCxnSpPr>
          <p:nvPr/>
        </p:nvCxnSpPr>
        <p:spPr>
          <a:xfrm rot="5400000">
            <a:off x="2780280" y="4286160"/>
            <a:ext cx="1067760" cy="533880"/>
          </a:xfrm>
          <a:prstGeom prst="curvedConnector5">
            <a:avLst>
              <a:gd name="adj1" fmla="val 26475"/>
              <a:gd name="adj2" fmla="val 50000"/>
              <a:gd name="adj3" fmla="val 26475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835440" y="2666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089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905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lors: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D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R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Prote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246852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3200400"/>
            <a:ext cx="838440" cy="28954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4724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se rank to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/>
          <p:nvPr/>
        </p:nvCxnSpPr>
        <p:spPr>
          <a:xfrm rot="5400000">
            <a:off x="3618720" y="3314520"/>
            <a:ext cx="838800" cy="610200"/>
          </a:xfrm>
          <a:prstGeom prst="curvedConnector5">
            <a:avLst>
              <a:gd name="adj1" fmla="val 74967"/>
              <a:gd name="adj2" fmla="val 50000"/>
              <a:gd name="adj3" fmla="val 74967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 rot="5400000">
            <a:off x="4466160" y="2466720"/>
            <a:ext cx="743760" cy="686520"/>
          </a:xfrm>
          <a:prstGeom prst="curvedConnector5">
            <a:avLst>
              <a:gd name="adj1" fmla="val 51234"/>
              <a:gd name="adj2" fmla="val 50000"/>
              <a:gd name="adj3" fmla="val 51234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6477120" y="4038480"/>
            <a:ext cx="761760" cy="20574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4495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3429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entral Dogma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nd transcript (alt. Splicing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5105520"/>
            <a:ext cx="449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4876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038480"/>
            <a:ext cx="3810240" cy="0"/>
          </a:xfrm>
          <a:prstGeom prst="line">
            <a:avLst/>
          </a:prstGeom>
          <a:ln w="38160">
            <a:solidFill>
              <a:srgbClr val="ff00ff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3200400"/>
            <a:ext cx="2666880" cy="0"/>
          </a:xfrm>
          <a:prstGeom prst="line">
            <a:avLst/>
          </a:prstGeom>
          <a:ln w="38160">
            <a:solidFill>
              <a:srgbClr val="ff00ff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2209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2438280"/>
            <a:ext cx="1066680" cy="0"/>
          </a:xfrm>
          <a:prstGeom prst="line">
            <a:avLst/>
          </a:prstGeom>
          <a:ln w="38160">
            <a:solidFill>
              <a:srgbClr val="00cc00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4572000"/>
            <a:ext cx="0" cy="1523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105160" y="5105520"/>
            <a:ext cx="228600" cy="99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4610160"/>
            <a:ext cx="533520" cy="0"/>
          </a:xfrm>
          <a:prstGeom prst="line">
            <a:avLst/>
          </a:prstGeom>
          <a:ln w="38160">
            <a:solidFill>
              <a:srgbClr val="ff00ff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4610160"/>
            <a:ext cx="53352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4610160"/>
            <a:ext cx="53352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4610160"/>
            <a:ext cx="533520" cy="0"/>
          </a:xfrm>
          <a:prstGeom prst="line">
            <a:avLst/>
          </a:prstGeom>
          <a:ln w="38160">
            <a:solidFill>
              <a:srgbClr val="ff00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4610160"/>
            <a:ext cx="53316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4648320"/>
            <a:ext cx="0" cy="1447560"/>
          </a:xfrm>
          <a:prstGeom prst="line">
            <a:avLst/>
          </a:prstGeom>
          <a:ln w="9360">
            <a:solidFill>
              <a:srgbClr val="ffcc00">
                <a:alpha val="2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010280" y="4648320"/>
            <a:ext cx="7632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4648320"/>
            <a:ext cx="0" cy="1447560"/>
          </a:xfrm>
          <a:prstGeom prst="line">
            <a:avLst/>
          </a:prstGeom>
          <a:ln w="9360">
            <a:solidFill>
              <a:srgbClr val="ffcc00">
                <a:alpha val="2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029200" y="3200400"/>
            <a:ext cx="380880" cy="838080"/>
          </a:xfrm>
          <a:prstGeom prst="line">
            <a:avLst/>
          </a:prstGeom>
          <a:ln w="9360">
            <a:solidFill>
              <a:srgbClr val="ffcc00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86200" y="4038480"/>
            <a:ext cx="914400" cy="60984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41911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724280" y="4038480"/>
            <a:ext cx="381240" cy="533520"/>
          </a:xfrm>
          <a:prstGeom prst="line">
            <a:avLst/>
          </a:prstGeom>
          <a:ln w="19080">
            <a:solidFill>
              <a:srgbClr val="00ffff">
                <a:alpha val="2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410080" y="4038480"/>
            <a:ext cx="76320" cy="60984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562360" y="4038480"/>
            <a:ext cx="1523880" cy="53352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5486040" y="4038480"/>
            <a:ext cx="762120" cy="53352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62" idx="0"/>
            <a:endCxn id="160" idx="0"/>
          </p:cNvCxnSpPr>
          <p:nvPr/>
        </p:nvCxnSpPr>
        <p:spPr>
          <a:xfrm rot="5400000">
            <a:off x="2780280" y="4286160"/>
            <a:ext cx="1067760" cy="533880"/>
          </a:xfrm>
          <a:prstGeom prst="curvedConnector5">
            <a:avLst>
              <a:gd name="adj1" fmla="val 26475"/>
              <a:gd name="adj2" fmla="val 50000"/>
              <a:gd name="adj3" fmla="val 26475"/>
            </a:avLst>
          </a:prstGeom>
          <a:ln w="19080">
            <a:solidFill>
              <a:srgbClr val="00ffff">
                <a:alpha val="29000"/>
              </a:srgbClr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4267080" y="2514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_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089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905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lors: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D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R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Prote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46852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200400"/>
            <a:ext cx="838440" cy="2895480"/>
          </a:xfrm>
          <a:prstGeom prst="line">
            <a:avLst/>
          </a:prstGeom>
          <a:ln w="19080">
            <a:solidFill>
              <a:srgbClr val="ffcc00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4724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se rank to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/>
          <p:nvPr/>
        </p:nvCxnSpPr>
        <p:spPr>
          <a:xfrm rot="5400000">
            <a:off x="3618720" y="3314520"/>
            <a:ext cx="838800" cy="610200"/>
          </a:xfrm>
          <a:prstGeom prst="curvedConnector5">
            <a:avLst>
              <a:gd name="adj1" fmla="val 74967"/>
              <a:gd name="adj2" fmla="val 50000"/>
              <a:gd name="adj3" fmla="val 74967"/>
            </a:avLst>
          </a:prstGeom>
          <a:ln w="19080">
            <a:solidFill>
              <a:srgbClr val="00ffff">
                <a:alpha val="29000"/>
              </a:srgbClr>
            </a:solidFill>
            <a:miter/>
            <a:tailEnd len="med" type="triangle" w="med"/>
          </a:ln>
        </p:spPr>
      </p:cxnSp>
      <p:cxnSp>
        <p:nvCxnSpPr>
          <p:cNvPr id="198" name=""/>
          <p:cNvCxnSpPr/>
          <p:nvPr/>
        </p:nvCxnSpPr>
        <p:spPr>
          <a:xfrm rot="5400000">
            <a:off x="4466160" y="2466720"/>
            <a:ext cx="743760" cy="686520"/>
          </a:xfrm>
          <a:prstGeom prst="curvedConnector5">
            <a:avLst>
              <a:gd name="adj1" fmla="val 51234"/>
              <a:gd name="adj2" fmla="val 50000"/>
              <a:gd name="adj3" fmla="val 51234"/>
            </a:avLst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715000" y="2438280"/>
            <a:ext cx="228600" cy="762120"/>
          </a:xfrm>
          <a:prstGeom prst="line">
            <a:avLst/>
          </a:prstGeom>
          <a:ln w="9360">
            <a:solidFill>
              <a:srgbClr val="ffcc00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809880"/>
            <a:ext cx="2743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95680" y="3809520"/>
            <a:ext cx="609840" cy="83844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5791320" y="3809520"/>
            <a:ext cx="304560" cy="7621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6629400" y="3809520"/>
            <a:ext cx="457200" cy="83844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3809880"/>
            <a:ext cx="762120" cy="22860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76920" y="2971800"/>
            <a:ext cx="175248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2971800"/>
            <a:ext cx="990720" cy="3124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09720" y="2971800"/>
            <a:ext cx="304920" cy="838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2286000"/>
            <a:ext cx="914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/>
          <p:nvPr/>
        </p:nvCxnSpPr>
        <p:spPr>
          <a:xfrm rot="5400000">
            <a:off x="5104800" y="2438280"/>
            <a:ext cx="68652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0" name=""/>
          <p:cNvCxnSpPr/>
          <p:nvPr/>
        </p:nvCxnSpPr>
        <p:spPr>
          <a:xfrm rot="5400000">
            <a:off x="4457160" y="3162240"/>
            <a:ext cx="838800" cy="457920"/>
          </a:xfrm>
          <a:prstGeom prst="curvedConnector5">
            <a:avLst>
              <a:gd name="adj1" fmla="val 49978"/>
              <a:gd name="adj2" fmla="val 49960"/>
              <a:gd name="adj3" fmla="val 49978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0" idx="0"/>
          </p:cNvCxnSpPr>
          <p:nvPr/>
        </p:nvCxnSpPr>
        <p:spPr>
          <a:xfrm rot="5400000">
            <a:off x="3399840" y="3961080"/>
            <a:ext cx="1276560" cy="915120"/>
          </a:xfrm>
          <a:prstGeom prst="curvedConnector5">
            <a:avLst>
              <a:gd name="adj1" fmla="val 33201"/>
              <a:gd name="adj2" fmla="val 49980"/>
              <a:gd name="adj3" fmla="val 33201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2057400" y="4343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_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34290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_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thological Cases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-splic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8120" y="5105520"/>
            <a:ext cx="449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72400" y="4876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2400" y="2895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72400" y="2362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876920" y="1828800"/>
            <a:ext cx="4114800" cy="368280"/>
            <a:chOff x="4876920" y="1828800"/>
            <a:chExt cx="4114800" cy="368280"/>
          </a:xfrm>
        </p:grpSpPr>
        <p:sp>
          <p:nvSpPr>
            <p:cNvPr id="222" name=""/>
            <p:cNvSpPr/>
            <p:nvPr/>
          </p:nvSpPr>
          <p:spPr>
            <a:xfrm>
              <a:off x="7772400" y="18288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te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76920" y="2057400"/>
              <a:ext cx="106668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724280" y="4572000"/>
            <a:ext cx="0" cy="1523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105160" y="5105520"/>
            <a:ext cx="228600" cy="99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9920" y="461016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7240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7010280" y="4648320"/>
            <a:ext cx="7632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3733920"/>
            <a:ext cx="228600" cy="9144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41911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3733920"/>
            <a:ext cx="380880" cy="9144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486400" y="3733920"/>
            <a:ext cx="609480" cy="9144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6933960" y="3733920"/>
            <a:ext cx="152280" cy="8380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248520" y="3733920"/>
            <a:ext cx="304560" cy="8380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3" idx="0"/>
            <a:endCxn id="217" idx="0"/>
          </p:cNvCxnSpPr>
          <p:nvPr/>
        </p:nvCxnSpPr>
        <p:spPr>
          <a:xfrm rot="5400000">
            <a:off x="2742480" y="4019760"/>
            <a:ext cx="1372320" cy="762480"/>
          </a:xfrm>
          <a:prstGeom prst="curvedConnector5">
            <a:avLst>
              <a:gd name="adj1" fmla="val 59590"/>
              <a:gd name="adj2" fmla="val 49976"/>
              <a:gd name="adj3" fmla="val 59590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33520" y="2089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1905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lors: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D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R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Prote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246852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4724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se rank to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endCxn id="252" idx="0"/>
          </p:cNvCxnSpPr>
          <p:nvPr/>
        </p:nvCxnSpPr>
        <p:spPr>
          <a:xfrm rot="5400000">
            <a:off x="4028400" y="2676600"/>
            <a:ext cx="629280" cy="457920"/>
          </a:xfrm>
          <a:prstGeom prst="curvedConnector5">
            <a:avLst>
              <a:gd name="adj1" fmla="val 32283"/>
              <a:gd name="adj2" fmla="val 26514"/>
              <a:gd name="adj3" fmla="val 32283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53" name=""/>
          <p:cNvCxnSpPr/>
          <p:nvPr/>
        </p:nvCxnSpPr>
        <p:spPr>
          <a:xfrm rot="5400000">
            <a:off x="5142600" y="2095200"/>
            <a:ext cx="457920" cy="38196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6705720" y="3733920"/>
            <a:ext cx="533160" cy="23619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4495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43400" y="2209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3200400"/>
            <a:ext cx="28954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9880" y="3733920"/>
            <a:ext cx="16002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91320" y="3733920"/>
            <a:ext cx="16002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590920"/>
            <a:ext cx="23619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495680" y="3200400"/>
            <a:ext cx="53352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6171840" y="3200400"/>
            <a:ext cx="30492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33526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59" idx="0"/>
          </p:cNvCxnSpPr>
          <p:nvPr/>
        </p:nvCxnSpPr>
        <p:spPr>
          <a:xfrm flipH="1" rot="16200000">
            <a:off x="6828480" y="4314600"/>
            <a:ext cx="1353240" cy="229320"/>
          </a:xfrm>
          <a:prstGeom prst="curvedConnector5">
            <a:avLst>
              <a:gd name="adj1" fmla="val 49281"/>
              <a:gd name="adj2" fmla="val 50000"/>
              <a:gd name="adj3" fmla="val 49281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391520" y="4038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72400" y="3505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1972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580920" y="3733920"/>
            <a:ext cx="685800" cy="23619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3200400"/>
            <a:ext cx="304920" cy="28954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257440" y="2590920"/>
            <a:ext cx="609480" cy="6094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2590920"/>
            <a:ext cx="762120" cy="35049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irwise Align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4648320"/>
            <a:ext cx="1828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4114800"/>
            <a:ext cx="0" cy="19051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4114800"/>
            <a:ext cx="10666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67080" y="3962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33520" y="2286000"/>
            <a:ext cx="2361960" cy="368280"/>
            <a:chOff x="533520" y="2286000"/>
            <a:chExt cx="2361960" cy="368280"/>
          </a:xfrm>
        </p:grpSpPr>
        <p:sp>
          <p:nvSpPr>
            <p:cNvPr id="280" name=""/>
            <p:cNvSpPr/>
            <p:nvPr/>
          </p:nvSpPr>
          <p:spPr>
            <a:xfrm>
              <a:off x="533520" y="2468520"/>
              <a:ext cx="38088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228600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turel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086600" y="1752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1981080"/>
            <a:ext cx="25146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486400" y="1980720"/>
            <a:ext cx="0" cy="21337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26668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248520" y="1980720"/>
            <a:ext cx="1066680" cy="4115160"/>
            <a:chOff x="6248520" y="1980720"/>
            <a:chExt cx="1066680" cy="4115160"/>
          </a:xfrm>
        </p:grpSpPr>
        <p:sp>
          <p:nvSpPr>
            <p:cNvPr id="287" name=""/>
            <p:cNvSpPr/>
            <p:nvPr/>
          </p:nvSpPr>
          <p:spPr>
            <a:xfrm>
              <a:off x="6248520" y="4114800"/>
              <a:ext cx="10666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3080" y="4114800"/>
              <a:ext cx="0" cy="19810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629400" y="1980720"/>
              <a:ext cx="0" cy="213372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876920" y="1980720"/>
            <a:ext cx="2971800" cy="4115160"/>
            <a:chOff x="4876920" y="1980720"/>
            <a:chExt cx="2971800" cy="4115160"/>
          </a:xfrm>
        </p:grpSpPr>
        <p:sp>
          <p:nvSpPr>
            <p:cNvPr id="291" name=""/>
            <p:cNvSpPr/>
            <p:nvPr/>
          </p:nvSpPr>
          <p:spPr>
            <a:xfrm>
              <a:off x="4876920" y="4495680"/>
              <a:ext cx="251460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81680" y="4495680"/>
              <a:ext cx="0" cy="1600200"/>
            </a:xfrm>
            <a:prstGeom prst="line">
              <a:avLst/>
            </a:prstGeom>
            <a:ln cap="rnd" w="28440">
              <a:solidFill>
                <a:srgbClr val="ffcc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781680" y="1980720"/>
              <a:ext cx="0" cy="2514600"/>
            </a:xfrm>
            <a:prstGeom prst="line">
              <a:avLst/>
            </a:prstGeom>
            <a:ln cap="rnd" w="28440">
              <a:solidFill>
                <a:srgbClr val="ffcc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4" name=""/>
            <p:cNvCxnSpPr/>
            <p:nvPr/>
          </p:nvCxnSpPr>
          <p:spPr>
            <a:xfrm flipH="1" flipV="1">
              <a:off x="5562000" y="4146480"/>
              <a:ext cx="610200" cy="317880"/>
            </a:xfrm>
            <a:prstGeom prst="straightConnector1">
              <a:avLst/>
            </a:prstGeom>
            <a:ln w="1260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295" name=""/>
            <p:cNvCxnSpPr/>
            <p:nvPr/>
          </p:nvCxnSpPr>
          <p:spPr>
            <a:xfrm flipV="1">
              <a:off x="6095880" y="4114440"/>
              <a:ext cx="610560" cy="381600"/>
            </a:xfrm>
            <a:prstGeom prst="straightConnector1">
              <a:avLst/>
            </a:prstGeom>
            <a:ln w="12600">
              <a:solidFill>
                <a:srgbClr val="00ffff"/>
              </a:solidFill>
              <a:miter/>
              <a:tailEnd len="sm" type="triangle" w="sm"/>
            </a:ln>
          </p:spPr>
        </p:cxnSp>
        <p:sp>
          <p:nvSpPr>
            <p:cNvPr id="296" name=""/>
            <p:cNvSpPr/>
            <p:nvPr/>
          </p:nvSpPr>
          <p:spPr>
            <a:xfrm>
              <a:off x="6858000" y="41911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ffff"/>
                  </a:solidFill>
                  <a:latin typeface="Times New Roman"/>
                </a:rPr>
                <a:t>part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quence variation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NP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4724280"/>
            <a:ext cx="1828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81480" y="4114800"/>
            <a:ext cx="0" cy="19051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76920" y="41148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3886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=&gt;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638680" y="2819520"/>
            <a:ext cx="0" cy="12952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3124080"/>
            <a:ext cx="1828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274320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0:41:40Z</dcterms:created>
  <dc:creator>Stan Letovsky</dc:creator>
  <dc:description/>
  <dc:language>en-US</dc:language>
  <cp:lastModifiedBy>Stan Letovsky</cp:lastModifiedBy>
  <dcterms:modified xsi:type="dcterms:W3CDTF">2003-05-02T16:54:07Z</dcterms:modified>
  <cp:revision>95</cp:revision>
  <dc:subject/>
  <dc:title>No Slide Title</dc:title>
</cp:coreProperties>
</file>